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F5B0E-FBB8-4C01-8B9C-A5033AEF8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60DA8-32A0-4955-B2D8-C67B67A7A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E8F07-4BDC-4B40-9002-F6DCC477F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F19D4-C4B4-4AA1-82F9-C4C020BD2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FAC95-277F-4C4C-8E02-B77919837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AFD29-EC4B-4AE8-91E4-95FFF6E90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6B4A3-67C0-4053-89DB-991F80BF1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2F425-8854-4568-9032-C8A006B58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F15CC-9F7E-4B09-8700-A4FC6D6FF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2FB59-9440-4662-A506-5C8F4A642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59A79-4A8C-436C-96C8-6DBB4D742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CC743-D739-49A7-AEA3-B1DBE3882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58F94-716B-4351-AE6A-6F9DC08CB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BDC98-A32D-4B2E-9B40-3877E8053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11177-7E8D-46FB-BBF7-6B92249A2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0A7D1-C26E-4D5B-AA7D-24A152685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24F2A-99B0-4A4E-8F45-2AC4D64C6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3762F-3F23-4531-848B-8B19A888A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7B453-5B27-45F9-9C2C-822C05970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3590B-8BCF-45EC-9DF4-14B8DA418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0F248-7959-4E4D-8189-53D35EC64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041F7-5D62-4E9C-9281-05A12E6AF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CB5BE-CC38-4EE7-95E8-9AB029AB3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889F2-39DB-4087-BE8A-5FE86083C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A3CB1-A514-4CD5-A98A-25B898459C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A6AE9-DBD7-4536-A9F1-46C306057B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Non-Equity Financing for the Company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1" name="Picture 7" descr="C:\Users\David\AppData\Local\Microsoft\Windows\Temporary Internet Files\Content.IE5\E238QFQ5\MP900315872[1].jpg"/>
          <p:cNvPicPr/>
          <p:nvPr/>
        </p:nvPicPr>
        <p:blipFill>
          <a:blip r:embed="rId1"/>
          <a:stretch/>
        </p:blipFill>
        <p:spPr>
          <a:xfrm>
            <a:off x="4267080" y="2057400"/>
            <a:ext cx="3891240" cy="426708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ersonal Resource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ncludes Family and Friend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re the funds sufficient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an they withstand the possible loss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How will loss effect relationships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upplier Financing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upplied through generous payment terms or direct loan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Non-financial assistanc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nagement Consult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Introduction to potential customer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eller Financing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Equipment sellers will finance a sale by accepting payments and taking a lien on the property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Buying a business, seller may want to stay involved and offer a payment pla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Business Incubator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A place that you can rent space to run your busines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Utilize the group resource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hare administrative supports and staff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Incubators in PA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Franchising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gencies that assist with evaluating you for a specific franchis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urchasing an existing franchis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ranchise Opportuniti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op 500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Joint Venture and Strategic Alliances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Developing a new marke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Developing a new product or technolog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haring complimentary technolog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ccessing a distribution network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haring in the execution of a contrac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ccessing capita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o-Branding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wo or more companies create an informal partnership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Resort and Airline offer a vacation packag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hare of advertising, increase marketability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90360" y="301320"/>
            <a:ext cx="76928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Non-Governmental Institutional Funding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ommercial Bank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redit-card Compani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rift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ommercial Financing Compani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ommercial Bank Funding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redit Card Loan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ommercial Bank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hort-term loan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Lines of credit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Floor plan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onstruction loan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Long-term loan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Real-estate loan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Letters of credit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Finding The Right Bank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Most people look to their primary bank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ypes of banks includ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oney-center bank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uper-regional bank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Regional bank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ommunity bank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Using FRICTO Framework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Determine how to fund the busines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ek Debt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Use Equity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The Loan Application Proces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Explain the business strategi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dentification of the borrower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dentification of the loan request and its timing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Uses for fund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Other sources of fund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ash flow projection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ollateria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ix C’s of Credi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haracter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ash Flow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apita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apacit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ollatera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redit Histor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Common Reasons Loans are Denied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ncomplete loan proposa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Unsupported cash flow projection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nexperienced Managemen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bility to repay the loa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Unrealistic revenue projection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Unrealistic expense projection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Underestimated Capital need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Lack of adequate collateria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After The Loan Is Approved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ommitment Letter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Loan Agreemen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romissory Not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urity Agreemen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Loan Agreemen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The amount of loan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Repayment schedul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Restrictive Covenants (2 Kinds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ompany’s representation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pecial Condition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losing fee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Insuranc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Default condition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How to fix default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Restrictive Covenants</a:t>
            </a: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Negative covenant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What you can not do without banks approva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ffirmative covenant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Actions the company must tak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romissory Not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ontains Key provisions of the loa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Interest rat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Term of the loan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Repayment schedul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When payment is lat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Default description and remedy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ecurity Agreemen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Details the lender’s interest in a specific piece of collateria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lso filed with the stat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Other Non-Governmental Funding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rifts (Savings and Loan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Better servic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Better pric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Relaxed credit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pecialized in mortgage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ommercial Finance Loan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Easier loan to obtai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ommercial Finance Associatio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The Entrepreneurial Funding Problem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Demand for small-business financing is greater than suppl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50% of firms begin with less than $5000 in capita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unded by owner, family members, or friend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us most companies start under funded and stay that wa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Factoring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Buys the company’s receivables at a reduced pric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Recourse Agreemen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ompany must buy back unsold product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Non-recourse Agreemen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Products are the property of the factoring agent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Factoring Advantage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ccelerate cash flow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Not dependent on credit of compan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Reduce debt need on balance shee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Reduce staff need to move product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Equipment Leasing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Operating Leasing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Lessee can return equipment at any time with proper notic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Lease payments are treated as operating expens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nance leasing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an not cancel lease without penalty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how as a liability on Balance sheet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dvantag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Government Financing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43000" y="1827360"/>
            <a:ext cx="7540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BA (Small Business Administration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Uses Private lenders to manage loan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lassified a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Regular – SBA controls approval of the loa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ertified – Heavily involved in SBA loan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referred – Chosen by SBA has among the best lender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Offers both long term and short term loans through various program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BA Program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7(a)  Guaranteed Loan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Good Character, management, expertise, and commitment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ontributing Fund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Feasibility plan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Investment in the busines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ollateria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BA Program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pecial 7(a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APLines Program – Meet short term and season work capital loan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Export Working Capital – Working capital needs of Business exporter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International Trade Loan – Those involved in international trad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DELTA -  For small businesses affected by defense cuts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BA Program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MicroLoan Program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Focuses on non-profit organizations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Loan money is used to lend to other small businesses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Typically small loans up to $35,000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BA Program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219320" y="1827360"/>
            <a:ext cx="7464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504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ertified Development Company Program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Loan from a private sector lender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No collateral require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mall Business Administratio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tate and Local Government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90360" y="1827360"/>
            <a:ext cx="7692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ennsylvania Economic Developmen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REDC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DA-COG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Harrisburg - Mayor's Economic Development Offic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The Entrepreneurial Funding Problem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Equity is hard to find for small business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Debt is hard to find (Loans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ompanies requesting funds often are under three years old and considered a risk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Five Stages of Financial Development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tart-up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ost difficult period for obtaining fund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Development Stag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Expansion Stag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Growth Stag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ublic Offering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mall Firms vs Larger Firm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mall firms (under 100 Employees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26 % had line of credit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9% had financial lease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6% had mortgage loan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14% had equipment loan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24 % had motor-vehicle loan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mall Firms vs Larger Firm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Larger Firm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60% had a line of credit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30% had financial lease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19% had mortgage loan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29% had equipment loan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26% had motor vehicle loan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Bank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37% of these funds for small firms comes from commercial bank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Other suppliers includ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Finance companie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Leasing companie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Other non-financial institution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Non-institutional Financing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rst choic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ersonal Fund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amily and Friend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upplier financing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ller financing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Business Incubator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ranchis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Joint ventur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7T01:48:25Z</dcterms:created>
  <dc:creator>David McNaughton</dc:creator>
  <dc:description/>
  <dc:language>en-US</dc:language>
  <cp:lastModifiedBy>User</cp:lastModifiedBy>
  <dcterms:modified xsi:type="dcterms:W3CDTF">2010-10-15T14:52:33Z</dcterms:modified>
  <cp:revision>7</cp:revision>
  <dc:subject/>
  <dc:title>Chapter 9</dc:title>
</cp:coreProperties>
</file>